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356A-72F1-4597-91B6-EB4B2540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96C9-CD39-42D9-B489-C8747947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B840-5A47-4478-8B5D-D50FBD79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2E09-5F20-461B-A1CF-3F523F041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B2A9-7309-4E8D-9629-ED2D3715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CCC-42A8-49C3-A641-63E6443C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C87-7E08-4AD5-A8C7-487B7962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5EBF-E5A3-44D1-94E0-C5352D74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BBAD-371F-4D75-B0E8-743277A5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E997-4318-4638-95AF-5BB56F60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549F-C3AA-4681-9E5D-4938A6F3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82AF-14BD-4E9A-9C4F-21B94F50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FC66-FF2C-435D-8667-B71E9CF95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 Control in Hospice and Palliative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kin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 more opioid myth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commonly cause nausea”…false, and if true for specific patient, we have good meds to help (or can switch to another opio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commonly cause euphoria”…Not in patients who are in pain.  A patient’s mood and sleep is likely to improve with effective relief of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rapidly become tolerant to opioids”…not true, but will need higher doses when disease progr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opioid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significant variation from one individual to another in effective do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pt’s age, weight, and prior experience with opioids into accou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ral route if able (just as effective)…IV only if unable to take POs, have decreased LOC, or uncontrolled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ioid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pharmacolo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acting PO meds generally reach their peak after 45-60min, and last 3-5 hours (IV peak is about 5-15min and duration is 1-2 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short-acting  PO meds (morphine, oxycodone) can be increased safely q 2 hrs (inc by 25-50% for mild/mod, and 50-100% for mod/severe pai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acting meds (ms-contin/oxycontin) should be increased every 24 hours, based on PRN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not increase methadone more often than q 4-7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pioid basic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first, use short acting drug, then based on 24 hour need convert to long acting…with PRN for breakthrough (which should be approx 10% of 24 hour do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In “normal” person start q 4 h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mg of short acting morphin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mg hydromorphone (dilaud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PRN on top of scheduled.  The PRN dose should be about 10% of 24 hr dose (in our patient, if morphine, that = 3mg…10% of 30mg=3m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24 hours, calculate the total opioid dose needed, and change to long acting pr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Per our example, 5mg of short act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orphine q 4 hours = 30mg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orphine daily….let’s say pt needed 3 P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doses (3mg x 3 = 9mg, so now your 24 hou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need is 39mg (about 40m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change to long acting morphine (oxycontin or ms contin) 20 mg PO BID, and keep a PRN…but since you want PRN to be 10% of total 24 hour dose, increase PRN to 4mg (10% of 40mg daily need) PO q 3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switching from one opioid to ano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account for “incomplete cross-tolerance”?…the tolerance of a currently administered opiate that does not extend completely to other opioids…which tends lower the dose of the second opi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do you reduce the second opioid?…25-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on oral morphine 60mg BID, getting very nauseated, vomiting…want to switch to IV hydromorphone (dilaud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daily dose of morphine= 120mg (60 x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of oral morphine to IV dilaudid is 30:1.5 (Google for “opioid equivalent calculato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0        x = 6mg IV hydromorphone (per 24 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     1.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24 dose equivalent of the previous oral morphine is 6mg IV hydromor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by 25-50% to account for cross tolerance...we’ll use 50%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, 3mg/ 24 h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vert to hourly drip, divide 3mg by 24 hours = 0.1mg/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patient is on 0.1mg an hour…what do you set as the PRN do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24 hour dose (3mg) would be 0.3mg…so set that as the patient administered dose on the P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162320" y="3170160"/>
            <a:ext cx="81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atients die in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2-90% of children report pain at end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alence of pain 64% in advanced 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 common in non-cancer (CHF, cirrhosis, HIV) patients common as well (40% w/in days of dea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 from 4B:  “Doctor, this patients pain is not controled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increase the drip right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  Bolus 2-3 times the current basal dos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 the basal rate by 25-100%.  Reassess after 15-30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the Fentanyl pat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nly for stable, chronic pain in patients who are opioid tolerant, getting regular opioids &gt; 1 week, and have requirement of at least 60mg morphine equivalent/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ollowing table based on the patients previous 24 hour opioid dose (if not on morphine, convert to morphine equival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increase more than every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ntanyl patch con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l 24 ho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ntanyl p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ph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d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g/day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cg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-5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-13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5-22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5-31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5-4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forget about constipati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lerance eventually develops for all side effec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ame hand that writes the opioid, writes the stool regime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ace AND something for motility (senna) SCHEDULED (not PRN)…write “hold for loose stoo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dd a PRN (lactulose, mirala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your pharmac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to know your pharmac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lt the palliative care service for help with pain and symptom management AND for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to consult the Palliative care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with complex decision making and determining goals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prolonged LOS without improvement who have poor pro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frequent ED visits/admissions for same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with educating pts/families about ho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ive pain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step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all types of pain (physical, emotional, spiritual)…if physical, what ki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each type of pain individually, focusing on specific etiology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al reassessment of treatment goals (pain levels, goals of function, mood, sleep, social interaction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ng type of P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ciceptive…tissue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ceral:  Difficult to localize (from stretching, compression, obstruction, infiltration, ischem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astic, cramping, gnawing, squeezing, pres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atic:  Loc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hing, stabbing, throbbing, squeez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pathic…nerve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ning, shooting, tingling, stabbing, scalding, painful numbnes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Analgesia Ladder for cancer p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 Acetaminophen, NSAID, or another adjuvant analgesic.  Skip this if in moderate or severe pa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 add lower potency opioid (codein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codone) or low dose of stronger opioid (morphine).  Use ATC dosing along with P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: add/start higher potency opioid (morphine, hydromorphone, or fentany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on’t need to “climb the ladd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an use adjuvant meds (antidepressant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onvulsants, anticholenergics) at any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vants to opioi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etaminophen (consider schedul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SAIDS (esp for bone mets, inflam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sphosphonates (for bony p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roids (for inflammation/ede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As/anticonvulsants (tegretol,gabapentin) for neuropathic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measures (capsaicin, lidocaine pat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ugs to Avoid on Hospice/palliative Care Set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peridine (demerol):  low potency orally, toxic metabolites may precipitate seizures &amp; confusion.  Really, only one indication for it:  Rig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ed agonist-antagonists (pentazocine):  no more potent than codeine, risk of hallucination &amp; agitation.  Inhibits analgesia of morp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xyphene (darvocet): no more potent than acetaminophen, toxic metabolites can precipitate seizures, confusion, cardio toxic, resp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give anything IM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ing Nociceptive pain:  Opi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 my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 commonly cause respiratory depression”…not if administered and titrated carefully.  OK, you should worry if RR &lt;6, has ALOC, or is hypoxic.  Be careful with narcan…rather than give 0.4mg x 1, much more humane to dilute into 9ml of NS, and give 1-2ml at a time, slowly, until patient resp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 cause addiction”…Physical dependence, yes…but addiction (impaired control over drug use, compulsive use, continued use despite harm)…almost n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pioid My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hasten death”…maybe the other way around (pain is psychologically and physically destructive, so unrelieved pain may shorten survival tim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l opioids are ineffective”…not true, but they do take longer to take effect, but oral opioids are preferable because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, ease in administration, less risk of infection (no need to have IV in place), less chance of dosing error, and more predictable pharmacologic steady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3:29:26Z</dcterms:created>
  <dc:creator>Health Services Department</dc:creator>
  <dc:description/>
  <dc:language>en-US</dc:language>
  <cp:lastModifiedBy>Lydia Rodriguez</cp:lastModifiedBy>
  <dcterms:modified xsi:type="dcterms:W3CDTF">2009-11-30T17:41:56Z</dcterms:modified>
  <cp:revision>7</cp:revision>
  <dc:subject/>
  <dc:title>Symptom management in hospice and palliative care</dc:title>
</cp:coreProperties>
</file>